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11074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965160" y="6083640"/>
            <a:ext cx="11074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540396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6639840" y="3098520"/>
            <a:ext cx="540396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965160" y="304560"/>
            <a:ext cx="11074320" cy="96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6639840" y="3098520"/>
            <a:ext cx="540396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965160" y="608364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540396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6639840" y="309852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639840" y="608364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6639840" y="309852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965160" y="6083640"/>
            <a:ext cx="11074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11074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965160" y="6083640"/>
            <a:ext cx="11074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639840" y="309852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965160" y="608364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6639840" y="608364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356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709520" y="3098520"/>
            <a:ext cx="356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8454240" y="3098520"/>
            <a:ext cx="356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965160" y="6083640"/>
            <a:ext cx="356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4709520" y="6083640"/>
            <a:ext cx="356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8454240" y="6083640"/>
            <a:ext cx="356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39840" y="309852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65160" y="608364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39840" y="608364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965160" y="3098520"/>
            <a:ext cx="1107432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110743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540396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6639840" y="3098520"/>
            <a:ext cx="540396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965160" y="304560"/>
            <a:ext cx="11074320" cy="96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6639840" y="3098520"/>
            <a:ext cx="540396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965160" y="608364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540396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6639840" y="309852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639840" y="608364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6639840" y="309852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965160" y="6083640"/>
            <a:ext cx="11074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11074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965160" y="6083640"/>
            <a:ext cx="11074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6639840" y="309852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965160" y="608364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6639840" y="608364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356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09520" y="3098520"/>
            <a:ext cx="356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454240" y="3098520"/>
            <a:ext cx="356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965160" y="6083640"/>
            <a:ext cx="356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709520" y="6083640"/>
            <a:ext cx="356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454240" y="6083640"/>
            <a:ext cx="356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356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709520" y="3098520"/>
            <a:ext cx="356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8454240" y="3098520"/>
            <a:ext cx="356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965160" y="6083640"/>
            <a:ext cx="356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/>
          </p:nvPr>
        </p:nvSpPr>
        <p:spPr>
          <a:xfrm>
            <a:off x="4709520" y="6083640"/>
            <a:ext cx="356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384" name="PlaceHolder 7"/>
          <p:cNvSpPr>
            <a:spLocks noGrp="1"/>
          </p:cNvSpPr>
          <p:nvPr>
            <p:ph/>
          </p:nvPr>
        </p:nvSpPr>
        <p:spPr>
          <a:xfrm>
            <a:off x="8454240" y="6083640"/>
            <a:ext cx="356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965160" y="3098520"/>
            <a:ext cx="1107432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110743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540396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6639840" y="3098520"/>
            <a:ext cx="540396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965160" y="304560"/>
            <a:ext cx="11074320" cy="96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6639840" y="3098520"/>
            <a:ext cx="540396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965160" y="608364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540396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6639840" y="309852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639840" y="608364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6639840" y="309852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965160" y="6083640"/>
            <a:ext cx="11074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11074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965160" y="6083640"/>
            <a:ext cx="11074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6639840" y="309852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965160" y="608364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6639840" y="608364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356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709520" y="3098520"/>
            <a:ext cx="356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8454240" y="3098520"/>
            <a:ext cx="356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965160" y="6083640"/>
            <a:ext cx="356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4709520" y="6083640"/>
            <a:ext cx="356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8454240" y="6083640"/>
            <a:ext cx="356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965160" y="3098520"/>
            <a:ext cx="1107432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110743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540396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6639840" y="3098520"/>
            <a:ext cx="540396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965160" y="304560"/>
            <a:ext cx="11074320" cy="96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6639840" y="3098520"/>
            <a:ext cx="540396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965160" y="608364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65160" y="3098520"/>
            <a:ext cx="1107432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540396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6639840" y="309852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6639840" y="608364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6639840" y="309852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965160" y="6083640"/>
            <a:ext cx="11074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11074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965160" y="6083640"/>
            <a:ext cx="11074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6639840" y="309852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965160" y="608364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6639840" y="608364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356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709520" y="3098520"/>
            <a:ext cx="356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8454240" y="3098520"/>
            <a:ext cx="356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965160" y="6083640"/>
            <a:ext cx="356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4709520" y="6083640"/>
            <a:ext cx="356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8454240" y="6083640"/>
            <a:ext cx="356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subTitle"/>
          </p:nvPr>
        </p:nvSpPr>
        <p:spPr>
          <a:xfrm>
            <a:off x="965160" y="3098520"/>
            <a:ext cx="1107432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110743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540396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6639840" y="3098520"/>
            <a:ext cx="540396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110743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ubTitle"/>
          </p:nvPr>
        </p:nvSpPr>
        <p:spPr>
          <a:xfrm>
            <a:off x="965160" y="304560"/>
            <a:ext cx="11074320" cy="96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6639840" y="3098520"/>
            <a:ext cx="540396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965160" y="608364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540396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6639840" y="309852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639840" y="608364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6639840" y="309852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965160" y="6083640"/>
            <a:ext cx="11074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11074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965160" y="6083640"/>
            <a:ext cx="11074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6639840" y="309852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965160" y="608364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639840" y="608364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356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709520" y="3098520"/>
            <a:ext cx="356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8454240" y="3098520"/>
            <a:ext cx="356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965160" y="6083640"/>
            <a:ext cx="356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495" name="PlaceHolder 6"/>
          <p:cNvSpPr>
            <a:spLocks noGrp="1"/>
          </p:cNvSpPr>
          <p:nvPr>
            <p:ph/>
          </p:nvPr>
        </p:nvSpPr>
        <p:spPr>
          <a:xfrm>
            <a:off x="4709520" y="6083640"/>
            <a:ext cx="356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496" name="PlaceHolder 7"/>
          <p:cNvSpPr>
            <a:spLocks noGrp="1"/>
          </p:cNvSpPr>
          <p:nvPr>
            <p:ph/>
          </p:nvPr>
        </p:nvSpPr>
        <p:spPr>
          <a:xfrm>
            <a:off x="8454240" y="6083640"/>
            <a:ext cx="356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540396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6639840" y="3098520"/>
            <a:ext cx="540396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965160" y="304560"/>
            <a:ext cx="11074320" cy="96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639840" y="3098520"/>
            <a:ext cx="540396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965160" y="608364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965160" y="3098520"/>
            <a:ext cx="1107432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540396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639840" y="309852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639840" y="608364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639840" y="309852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965160" y="6083640"/>
            <a:ext cx="11074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11074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965160" y="6083640"/>
            <a:ext cx="11074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639840" y="309852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65160" y="608364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6639840" y="608364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356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09520" y="3098520"/>
            <a:ext cx="356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454240" y="3098520"/>
            <a:ext cx="356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965160" y="6083640"/>
            <a:ext cx="356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4709520" y="6083640"/>
            <a:ext cx="356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8454240" y="6083640"/>
            <a:ext cx="356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965160" y="3098520"/>
            <a:ext cx="1107432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110743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540396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639840" y="3098520"/>
            <a:ext cx="540396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110743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965160" y="304560"/>
            <a:ext cx="11074320" cy="96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639840" y="3098520"/>
            <a:ext cx="540396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965160" y="608364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540396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6639840" y="309852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9840" y="608364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6639840" y="309852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965160" y="6083640"/>
            <a:ext cx="11074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11074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965160" y="6083640"/>
            <a:ext cx="11074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639840" y="309852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965160" y="608364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6639840" y="608364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356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09520" y="3098520"/>
            <a:ext cx="356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8454240" y="3098520"/>
            <a:ext cx="356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965160" y="6083640"/>
            <a:ext cx="356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4709520" y="6083640"/>
            <a:ext cx="356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8454240" y="6083640"/>
            <a:ext cx="356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965160" y="3098520"/>
            <a:ext cx="1107432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110743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540396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39840" y="3098520"/>
            <a:ext cx="540396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540396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639840" y="3098520"/>
            <a:ext cx="540396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965160" y="304560"/>
            <a:ext cx="11074320" cy="96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6639840" y="3098520"/>
            <a:ext cx="540396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965160" y="608364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540396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639840" y="309852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639840" y="608364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639840" y="309852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965160" y="6083640"/>
            <a:ext cx="11074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11074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965160" y="6083640"/>
            <a:ext cx="11074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639840" y="309852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965160" y="608364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639840" y="608364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356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709520" y="3098520"/>
            <a:ext cx="356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8454240" y="3098520"/>
            <a:ext cx="356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965160" y="6083640"/>
            <a:ext cx="356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4709520" y="6083640"/>
            <a:ext cx="356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8454240" y="6083640"/>
            <a:ext cx="356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965160" y="3098520"/>
            <a:ext cx="1107432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110743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540396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6639840" y="3098520"/>
            <a:ext cx="540396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965160" y="304560"/>
            <a:ext cx="11074320" cy="96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6639840" y="3098520"/>
            <a:ext cx="540396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965160" y="608364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540396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6639840" y="309852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639840" y="608364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6639840" y="309852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965160" y="6083640"/>
            <a:ext cx="11074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11074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965160" y="6083640"/>
            <a:ext cx="11074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639840" y="309852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965160" y="608364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6639840" y="608364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965160" y="304560"/>
            <a:ext cx="11074320" cy="96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356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709520" y="3098520"/>
            <a:ext cx="356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8454240" y="3098520"/>
            <a:ext cx="356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965160" y="6083640"/>
            <a:ext cx="356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4709520" y="6083640"/>
            <a:ext cx="356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8454240" y="6083640"/>
            <a:ext cx="356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965160" y="3098520"/>
            <a:ext cx="1107432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110743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540396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6639840" y="3098520"/>
            <a:ext cx="540396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965160" y="304560"/>
            <a:ext cx="11074320" cy="96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639840" y="3098520"/>
            <a:ext cx="540396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965160" y="608364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540396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6639840" y="309852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639840" y="608364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6639840" y="309852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965160" y="6083640"/>
            <a:ext cx="11074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39840" y="3098520"/>
            <a:ext cx="540396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965160" y="608364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11074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965160" y="6083640"/>
            <a:ext cx="11074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6639840" y="309852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965160" y="608364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6639840" y="608364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356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709520" y="3098520"/>
            <a:ext cx="356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8454240" y="3098520"/>
            <a:ext cx="356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965160" y="6083640"/>
            <a:ext cx="356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4709520" y="6083640"/>
            <a:ext cx="356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8454240" y="6083640"/>
            <a:ext cx="356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965160" y="3098520"/>
            <a:ext cx="1107432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110743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540396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6639840" y="3098520"/>
            <a:ext cx="540396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965160" y="304560"/>
            <a:ext cx="11074320" cy="96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6639840" y="3098520"/>
            <a:ext cx="540396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965160" y="608364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540396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39840" y="309852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39840" y="608364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540396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639840" y="309852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639840" y="608364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6639840" y="309852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965160" y="6083640"/>
            <a:ext cx="11074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11074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965160" y="6083640"/>
            <a:ext cx="11074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6639840" y="309852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965160" y="608364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6639840" y="608364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356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709520" y="3098520"/>
            <a:ext cx="356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8454240" y="3098520"/>
            <a:ext cx="356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965160" y="6083640"/>
            <a:ext cx="356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4709520" y="6083640"/>
            <a:ext cx="356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8454240" y="6083640"/>
            <a:ext cx="356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965160" y="3098520"/>
            <a:ext cx="1107432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110743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540396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6639840" y="3098520"/>
            <a:ext cx="540396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39840" y="309852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65160" y="6083640"/>
            <a:ext cx="11074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965160" y="304560"/>
            <a:ext cx="11074320" cy="96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6639840" y="3098520"/>
            <a:ext cx="540396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965160" y="608364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540396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6639840" y="309852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639840" y="608364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6639840" y="309852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965160" y="6083640"/>
            <a:ext cx="11074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11074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965160" y="6083640"/>
            <a:ext cx="11074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639840" y="309852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965160" y="608364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6639840" y="608364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356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709520" y="3098520"/>
            <a:ext cx="356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8454240" y="3098520"/>
            <a:ext cx="356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965160" y="6083640"/>
            <a:ext cx="356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4709520" y="6083640"/>
            <a:ext cx="356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8454240" y="6083640"/>
            <a:ext cx="356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965160" y="3098520"/>
            <a:ext cx="1107432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110743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65160" y="2476440"/>
            <a:ext cx="11074320" cy="2921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ececec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65160" y="5384880"/>
            <a:ext cx="11074320" cy="1409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2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ebcd9c"/>
                </a:solidFill>
                <a:latin typeface="Gill Sans"/>
              </a:rPr>
              <a:t>Click to edit the outline text format</a:t>
            </a: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  <a:p>
            <a:pPr lvl="1" algn="ctr">
              <a:buClr>
                <a:srgbClr val="ebcd9c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ebcd9c"/>
                </a:solidFill>
                <a:latin typeface="Gill Sans"/>
              </a:rPr>
              <a:t>Second Outline Level</a:t>
            </a: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  <a:p>
            <a:pPr lvl="2" algn="ctr">
              <a:buClr>
                <a:srgbClr val="ebcd9c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ebcd9c"/>
                </a:solidFill>
                <a:latin typeface="Gill Sans"/>
              </a:rPr>
              <a:t>Third Outline Level</a:t>
            </a: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  <a:p>
            <a:pPr lvl="3" algn="ctr">
              <a:buClr>
                <a:srgbClr val="ebcd9c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ebcd9c"/>
                </a:solidFill>
                <a:latin typeface="Gill Sans"/>
              </a:rPr>
              <a:t>Fourth Outline Level</a:t>
            </a: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  <a:p>
            <a:pPr lvl="4" algn="ctr">
              <a:buClr>
                <a:srgbClr val="ebcd9c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ebcd9c"/>
                </a:solidFill>
                <a:latin typeface="Gill Sans"/>
              </a:rPr>
              <a:t>Fifth Outline Level</a:t>
            </a: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  <a:p>
            <a:pPr lvl="5" algn="ctr">
              <a:buClr>
                <a:srgbClr val="ebcd9c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ebcd9c"/>
                </a:solidFill>
                <a:latin typeface="Gill Sans"/>
              </a:rPr>
              <a:t>Sixth Outline Level</a:t>
            </a: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  <a:p>
            <a:pPr lvl="6" algn="ctr">
              <a:buClr>
                <a:srgbClr val="ebcd9c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ebcd9c"/>
                </a:solidFill>
                <a:latin typeface="Gill Sans"/>
              </a:rPr>
              <a:t>Seventh Outline Level</a:t>
            </a: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3004640" cy="2476440"/>
          </a:xfrm>
          <a:prstGeom prst="rect">
            <a:avLst/>
          </a:prstGeom>
          <a:ln w="0">
            <a:noFill/>
          </a:ln>
        </p:spPr>
      </p:pic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ececec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body"/>
          </p:nvPr>
        </p:nvSpPr>
        <p:spPr>
          <a:xfrm>
            <a:off x="965160" y="1320480"/>
            <a:ext cx="11074320" cy="711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0000"/>
          </a:bodyPr>
          <a:p>
            <a:pPr marL="365760" indent="-365760">
              <a:spcBef>
                <a:spcPts val="4799"/>
              </a:spcBef>
              <a:buClr>
                <a:srgbClr val="ebcd9c"/>
              </a:buClr>
              <a:buSzPct val="56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ebcd9c"/>
                </a:solidFill>
                <a:latin typeface="Gill Sans"/>
              </a:rPr>
              <a:t>Click to edit the outline text format</a:t>
            </a: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  <a:p>
            <a:pPr lvl="1" marL="720000" indent="-365760">
              <a:spcBef>
                <a:spcPts val="4799"/>
              </a:spcBef>
              <a:buClr>
                <a:srgbClr val="ebcd9c"/>
              </a:buClr>
              <a:buSzPct val="56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ebcd9c"/>
                </a:solidFill>
                <a:latin typeface="Gill Sans"/>
              </a:rPr>
              <a:t>Second Outline Level</a:t>
            </a: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  <a:p>
            <a:pPr lvl="2" marL="1119960" indent="-365760">
              <a:spcBef>
                <a:spcPts val="4799"/>
              </a:spcBef>
              <a:buClr>
                <a:srgbClr val="ebcd9c"/>
              </a:buClr>
              <a:buSzPct val="56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ebcd9c"/>
                </a:solidFill>
                <a:latin typeface="Gill Sans"/>
              </a:rPr>
              <a:t>Third Outline Level</a:t>
            </a: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  <a:p>
            <a:pPr lvl="3" marL="1519920" indent="-365760">
              <a:spcBef>
                <a:spcPts val="4799"/>
              </a:spcBef>
              <a:buClr>
                <a:srgbClr val="ebcd9c"/>
              </a:buClr>
              <a:buSzPct val="56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ebcd9c"/>
                </a:solidFill>
                <a:latin typeface="Gill Sans"/>
              </a:rPr>
              <a:t>Fourth Outline Level</a:t>
            </a: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  <a:p>
            <a:pPr lvl="4" marL="1920240" indent="-365760">
              <a:spcBef>
                <a:spcPts val="4799"/>
              </a:spcBef>
              <a:buClr>
                <a:srgbClr val="ebcd9c"/>
              </a:buClr>
              <a:buSzPct val="56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ebcd9c"/>
                </a:solidFill>
                <a:latin typeface="Gill Sans"/>
              </a:rPr>
              <a:t>Fifth Outline Level</a:t>
            </a: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  <a:p>
            <a:pPr lvl="5" marL="1920240" indent="-365760">
              <a:spcBef>
                <a:spcPts val="4799"/>
              </a:spcBef>
              <a:buClr>
                <a:srgbClr val="ebcd9c"/>
              </a:buClr>
              <a:buSzPct val="56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ebcd9c"/>
                </a:solidFill>
                <a:latin typeface="Gill Sans"/>
              </a:rPr>
              <a:t>Sixth Outline Level</a:t>
            </a: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  <a:p>
            <a:pPr lvl="6" marL="1920240" indent="-365760">
              <a:spcBef>
                <a:spcPts val="4799"/>
              </a:spcBef>
              <a:buClr>
                <a:srgbClr val="ebcd9c"/>
              </a:buClr>
              <a:buSzPct val="56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ebcd9c"/>
                </a:solidFill>
                <a:latin typeface="Gill Sans"/>
              </a:rPr>
              <a:t>Seventh Outline Level</a:t>
            </a: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8" name="" descr=""/>
          <p:cNvPicPr/>
          <p:nvPr/>
        </p:nvPicPr>
        <p:blipFill>
          <a:blip r:embed="rId3"/>
          <a:stretch/>
        </p:blipFill>
        <p:spPr>
          <a:xfrm>
            <a:off x="0" y="2128680"/>
            <a:ext cx="11733120" cy="668520"/>
          </a:xfrm>
          <a:prstGeom prst="rect">
            <a:avLst/>
          </a:prstGeom>
          <a:ln w="0">
            <a:noFill/>
          </a:ln>
        </p:spPr>
      </p:pic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ececec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965160" y="3098520"/>
            <a:ext cx="110743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6000"/>
          </a:bodyPr>
          <a:p>
            <a:pPr marL="349200" indent="-349200">
              <a:spcBef>
                <a:spcPts val="3200"/>
              </a:spcBef>
              <a:buClr>
                <a:srgbClr val="ebcd9c"/>
              </a:buClr>
              <a:buSzPct val="56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ebcd9c"/>
                </a:solidFill>
                <a:latin typeface="Gill Sans"/>
              </a:rPr>
              <a:t>Click to edit the outline text format</a:t>
            </a: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  <a:p>
            <a:pPr lvl="1" marL="687960" indent="-349200">
              <a:spcBef>
                <a:spcPts val="3200"/>
              </a:spcBef>
              <a:buClr>
                <a:srgbClr val="ebcd9c"/>
              </a:buClr>
              <a:buSzPct val="56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ebcd9c"/>
                </a:solidFill>
                <a:latin typeface="Gill Sans"/>
              </a:rPr>
              <a:t>Second Outline Level</a:t>
            </a: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  <a:p>
            <a:pPr lvl="2" marL="1070280" indent="-349200">
              <a:spcBef>
                <a:spcPts val="3200"/>
              </a:spcBef>
              <a:buClr>
                <a:srgbClr val="ebcd9c"/>
              </a:buClr>
              <a:buSzPct val="56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ebcd9c"/>
                </a:solidFill>
                <a:latin typeface="Gill Sans"/>
              </a:rPr>
              <a:t>Third Outline Level</a:t>
            </a: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  <a:p>
            <a:pPr lvl="3" marL="1452600" indent="-349200">
              <a:spcBef>
                <a:spcPts val="3200"/>
              </a:spcBef>
              <a:buClr>
                <a:srgbClr val="ebcd9c"/>
              </a:buClr>
              <a:buSzPct val="56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ebcd9c"/>
                </a:solidFill>
                <a:latin typeface="Gill Sans"/>
              </a:rPr>
              <a:t>Fourth Outline Level</a:t>
            </a: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  <a:p>
            <a:pPr lvl="4" marL="1834920" indent="-349200">
              <a:spcBef>
                <a:spcPts val="3200"/>
              </a:spcBef>
              <a:buClr>
                <a:srgbClr val="ebcd9c"/>
              </a:buClr>
              <a:buSzPct val="56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ebcd9c"/>
                </a:solidFill>
                <a:latin typeface="Gill Sans"/>
              </a:rPr>
              <a:t>Fifth Outline Level</a:t>
            </a: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  <a:p>
            <a:pPr lvl="5" marL="1834920" indent="-349200">
              <a:spcBef>
                <a:spcPts val="3200"/>
              </a:spcBef>
              <a:buClr>
                <a:srgbClr val="ebcd9c"/>
              </a:buClr>
              <a:buSzPct val="56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ebcd9c"/>
                </a:solidFill>
                <a:latin typeface="Gill Sans"/>
              </a:rPr>
              <a:t>Sixth Outline Level</a:t>
            </a: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  <a:p>
            <a:pPr lvl="6" marL="1834920" indent="-349200">
              <a:spcBef>
                <a:spcPts val="3200"/>
              </a:spcBef>
              <a:buClr>
                <a:srgbClr val="ebcd9c"/>
              </a:buClr>
              <a:buSzPct val="56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ebcd9c"/>
                </a:solidFill>
                <a:latin typeface="Gill Sans"/>
              </a:rPr>
              <a:t>Seventh Outline Level</a:t>
            </a: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" descr=""/>
          <p:cNvPicPr/>
          <p:nvPr/>
        </p:nvPicPr>
        <p:blipFill>
          <a:blip r:embed="rId3"/>
          <a:stretch/>
        </p:blipFill>
        <p:spPr>
          <a:xfrm>
            <a:off x="0" y="2128680"/>
            <a:ext cx="11733120" cy="668520"/>
          </a:xfrm>
          <a:prstGeom prst="rect">
            <a:avLst/>
          </a:prstGeom>
          <a:ln w="0">
            <a:noFill/>
          </a:ln>
        </p:spPr>
      </p:pic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ececec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965160" y="3098520"/>
            <a:ext cx="110743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6000"/>
          </a:bodyPr>
          <a:p>
            <a:pPr marL="349200" indent="-349200">
              <a:spcBef>
                <a:spcPts val="3200"/>
              </a:spcBef>
              <a:buClr>
                <a:srgbClr val="ebcd9c"/>
              </a:buClr>
              <a:buSzPct val="56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ebcd9c"/>
                </a:solidFill>
                <a:latin typeface="Gill Sans"/>
              </a:rPr>
              <a:t>Click to edit the outline text format</a:t>
            </a: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  <a:p>
            <a:pPr lvl="1" marL="687960" indent="-349200">
              <a:spcBef>
                <a:spcPts val="3200"/>
              </a:spcBef>
              <a:buClr>
                <a:srgbClr val="ebcd9c"/>
              </a:buClr>
              <a:buSzPct val="56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ebcd9c"/>
                </a:solidFill>
                <a:latin typeface="Gill Sans"/>
              </a:rPr>
              <a:t>Second Outline Level</a:t>
            </a: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  <a:p>
            <a:pPr lvl="2" marL="1070280" indent="-349200">
              <a:spcBef>
                <a:spcPts val="3200"/>
              </a:spcBef>
              <a:buClr>
                <a:srgbClr val="ebcd9c"/>
              </a:buClr>
              <a:buSzPct val="56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ebcd9c"/>
                </a:solidFill>
                <a:latin typeface="Gill Sans"/>
              </a:rPr>
              <a:t>Third Outline Level</a:t>
            </a: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  <a:p>
            <a:pPr lvl="3" marL="1452600" indent="-349200">
              <a:spcBef>
                <a:spcPts val="3200"/>
              </a:spcBef>
              <a:buClr>
                <a:srgbClr val="ebcd9c"/>
              </a:buClr>
              <a:buSzPct val="56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ebcd9c"/>
                </a:solidFill>
                <a:latin typeface="Gill Sans"/>
              </a:rPr>
              <a:t>Fourth Outline Level</a:t>
            </a: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  <a:p>
            <a:pPr lvl="4" marL="1834920" indent="-349200">
              <a:spcBef>
                <a:spcPts val="3200"/>
              </a:spcBef>
              <a:buClr>
                <a:srgbClr val="ebcd9c"/>
              </a:buClr>
              <a:buSzPct val="56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ebcd9c"/>
                </a:solidFill>
                <a:latin typeface="Gill Sans"/>
              </a:rPr>
              <a:t>Fifth Outline Level</a:t>
            </a: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  <a:p>
            <a:pPr lvl="5" marL="1834920" indent="-349200">
              <a:spcBef>
                <a:spcPts val="3200"/>
              </a:spcBef>
              <a:buClr>
                <a:srgbClr val="ebcd9c"/>
              </a:buClr>
              <a:buSzPct val="56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ebcd9c"/>
                </a:solidFill>
                <a:latin typeface="Gill Sans"/>
              </a:rPr>
              <a:t>Sixth Outline Level</a:t>
            </a: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  <a:p>
            <a:pPr lvl="6" marL="1834920" indent="-349200">
              <a:spcBef>
                <a:spcPts val="3200"/>
              </a:spcBef>
              <a:buClr>
                <a:srgbClr val="ebcd9c"/>
              </a:buClr>
              <a:buSzPct val="56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ebcd9c"/>
                </a:solidFill>
                <a:latin typeface="Gill Sans"/>
              </a:rPr>
              <a:t>Seventh Outline Level</a:t>
            </a: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3004640" cy="24764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ececec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65160" y="3098520"/>
            <a:ext cx="50292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2000"/>
          </a:bodyPr>
          <a:p>
            <a:pPr marL="292320" indent="-292320">
              <a:spcBef>
                <a:spcPts val="3200"/>
              </a:spcBef>
              <a:buClr>
                <a:srgbClr val="ae2b21"/>
              </a:buClr>
              <a:buSzPct val="56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ae2b21"/>
                </a:solidFill>
                <a:latin typeface="Gill Sans"/>
              </a:rPr>
              <a:t>Click to edit the outline text format</a:t>
            </a: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  <a:p>
            <a:pPr lvl="1" marL="576000" indent="-292320">
              <a:spcBef>
                <a:spcPts val="3200"/>
              </a:spcBef>
              <a:buClr>
                <a:srgbClr val="ae2b21"/>
              </a:buClr>
              <a:buSzPct val="56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ae2b21"/>
                </a:solidFill>
                <a:latin typeface="Gill Sans"/>
              </a:rPr>
              <a:t>Second Outline Level</a:t>
            </a: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  <a:p>
            <a:pPr lvl="2" marL="896040" indent="-292320">
              <a:spcBef>
                <a:spcPts val="3200"/>
              </a:spcBef>
              <a:buClr>
                <a:srgbClr val="ae2b21"/>
              </a:buClr>
              <a:buSzPct val="56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ae2b21"/>
                </a:solidFill>
                <a:latin typeface="Gill Sans"/>
              </a:rPr>
              <a:t>Third Outline Level</a:t>
            </a: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  <a:p>
            <a:pPr lvl="3" marL="1216080" indent="-292320">
              <a:spcBef>
                <a:spcPts val="3200"/>
              </a:spcBef>
              <a:buClr>
                <a:srgbClr val="ae2b21"/>
              </a:buClr>
              <a:buSzPct val="56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ae2b21"/>
                </a:solidFill>
                <a:latin typeface="Gill Sans"/>
              </a:rPr>
              <a:t>Fourth Outline Level</a:t>
            </a: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  <a:p>
            <a:pPr lvl="4" marL="1536120" indent="-292320">
              <a:spcBef>
                <a:spcPts val="3200"/>
              </a:spcBef>
              <a:buClr>
                <a:srgbClr val="ae2b21"/>
              </a:buClr>
              <a:buSzPct val="56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ae2b21"/>
                </a:solidFill>
                <a:latin typeface="Gill Sans"/>
              </a:rPr>
              <a:t>Fifth Outline Level</a:t>
            </a: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  <a:p>
            <a:pPr lvl="5" marL="1536120" indent="-292320">
              <a:spcBef>
                <a:spcPts val="3200"/>
              </a:spcBef>
              <a:buClr>
                <a:srgbClr val="ae2b21"/>
              </a:buClr>
              <a:buSzPct val="56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ae2b21"/>
                </a:solidFill>
                <a:latin typeface="Gill Sans"/>
              </a:rPr>
              <a:t>Sixth Outline Level</a:t>
            </a: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  <a:p>
            <a:pPr lvl="6" marL="1536120" indent="-292320">
              <a:spcBef>
                <a:spcPts val="3200"/>
              </a:spcBef>
              <a:buClr>
                <a:srgbClr val="ae2b21"/>
              </a:buClr>
              <a:buSzPct val="56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ae2b21"/>
                </a:solidFill>
                <a:latin typeface="Gill Sans"/>
              </a:rPr>
              <a:t>Seventh Outline Level</a:t>
            </a: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3004640" cy="247644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ececec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965160" y="3098520"/>
            <a:ext cx="50292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2000"/>
          </a:bodyPr>
          <a:p>
            <a:pPr marL="292320" indent="-292320">
              <a:spcBef>
                <a:spcPts val="3200"/>
              </a:spcBef>
              <a:buClr>
                <a:srgbClr val="ae2b21"/>
              </a:buClr>
              <a:buSzPct val="56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ae2b21"/>
                </a:solidFill>
                <a:latin typeface="Gill Sans"/>
              </a:rPr>
              <a:t>Click to edit the outline text format</a:t>
            </a: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  <a:p>
            <a:pPr lvl="1" marL="576000" indent="-292320">
              <a:spcBef>
                <a:spcPts val="3200"/>
              </a:spcBef>
              <a:buClr>
                <a:srgbClr val="ae2b21"/>
              </a:buClr>
              <a:buSzPct val="56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ae2b21"/>
                </a:solidFill>
                <a:latin typeface="Gill Sans"/>
              </a:rPr>
              <a:t>Second Outline Level</a:t>
            </a: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  <a:p>
            <a:pPr lvl="2" marL="896040" indent="-292320">
              <a:spcBef>
                <a:spcPts val="3200"/>
              </a:spcBef>
              <a:buClr>
                <a:srgbClr val="ae2b21"/>
              </a:buClr>
              <a:buSzPct val="56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ae2b21"/>
                </a:solidFill>
                <a:latin typeface="Gill Sans"/>
              </a:rPr>
              <a:t>Third Outline Level</a:t>
            </a: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  <a:p>
            <a:pPr lvl="3" marL="1216080" indent="-292320">
              <a:spcBef>
                <a:spcPts val="3200"/>
              </a:spcBef>
              <a:buClr>
                <a:srgbClr val="ae2b21"/>
              </a:buClr>
              <a:buSzPct val="56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ae2b21"/>
                </a:solidFill>
                <a:latin typeface="Gill Sans"/>
              </a:rPr>
              <a:t>Fourth Outline Level</a:t>
            </a: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  <a:p>
            <a:pPr lvl="4" marL="1536120" indent="-292320">
              <a:spcBef>
                <a:spcPts val="3200"/>
              </a:spcBef>
              <a:buClr>
                <a:srgbClr val="ae2b21"/>
              </a:buClr>
              <a:buSzPct val="56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ae2b21"/>
                </a:solidFill>
                <a:latin typeface="Gill Sans"/>
              </a:rPr>
              <a:t>Fifth Outline Level</a:t>
            </a: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  <a:p>
            <a:pPr lvl="5" marL="1536120" indent="-292320">
              <a:spcBef>
                <a:spcPts val="3200"/>
              </a:spcBef>
              <a:buClr>
                <a:srgbClr val="ae2b21"/>
              </a:buClr>
              <a:buSzPct val="56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ae2b21"/>
                </a:solidFill>
                <a:latin typeface="Gill Sans"/>
              </a:rPr>
              <a:t>Sixth Outline Level</a:t>
            </a: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  <a:p>
            <a:pPr lvl="6" marL="1536120" indent="-292320">
              <a:spcBef>
                <a:spcPts val="3200"/>
              </a:spcBef>
              <a:buClr>
                <a:srgbClr val="ae2b21"/>
              </a:buClr>
              <a:buSzPct val="56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ae2b21"/>
                </a:solidFill>
                <a:latin typeface="Gill Sans"/>
              </a:rPr>
              <a:t>Seventh Outline Level</a:t>
            </a: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3004640" cy="2476440"/>
          </a:xfrm>
          <a:prstGeom prst="rect">
            <a:avLst/>
          </a:prstGeom>
          <a:ln w="0">
            <a:noFill/>
          </a:ln>
        </p:spPr>
      </p:pic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ececec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7010280" y="3098520"/>
            <a:ext cx="50292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2000"/>
          </a:bodyPr>
          <a:p>
            <a:pPr marL="292320" indent="-292320">
              <a:spcBef>
                <a:spcPts val="3200"/>
              </a:spcBef>
              <a:buClr>
                <a:srgbClr val="ae2b21"/>
              </a:buClr>
              <a:buSzPct val="56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ae2b21"/>
                </a:solidFill>
                <a:latin typeface="Gill Sans"/>
              </a:rPr>
              <a:t>Click to edit the outline text format</a:t>
            </a: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  <a:p>
            <a:pPr lvl="1" marL="576000" indent="-292320">
              <a:spcBef>
                <a:spcPts val="3200"/>
              </a:spcBef>
              <a:buClr>
                <a:srgbClr val="ae2b21"/>
              </a:buClr>
              <a:buSzPct val="56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ae2b21"/>
                </a:solidFill>
                <a:latin typeface="Gill Sans"/>
              </a:rPr>
              <a:t>Second Outline Level</a:t>
            </a: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  <a:p>
            <a:pPr lvl="2" marL="896040" indent="-292320">
              <a:spcBef>
                <a:spcPts val="3200"/>
              </a:spcBef>
              <a:buClr>
                <a:srgbClr val="ae2b21"/>
              </a:buClr>
              <a:buSzPct val="56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ae2b21"/>
                </a:solidFill>
                <a:latin typeface="Gill Sans"/>
              </a:rPr>
              <a:t>Third Outline Level</a:t>
            </a: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  <a:p>
            <a:pPr lvl="3" marL="1216080" indent="-292320">
              <a:spcBef>
                <a:spcPts val="3200"/>
              </a:spcBef>
              <a:buClr>
                <a:srgbClr val="ae2b21"/>
              </a:buClr>
              <a:buSzPct val="56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ae2b21"/>
                </a:solidFill>
                <a:latin typeface="Gill Sans"/>
              </a:rPr>
              <a:t>Fourth Outline Level</a:t>
            </a: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  <a:p>
            <a:pPr lvl="4" marL="1536120" indent="-292320">
              <a:spcBef>
                <a:spcPts val="3200"/>
              </a:spcBef>
              <a:buClr>
                <a:srgbClr val="ae2b21"/>
              </a:buClr>
              <a:buSzPct val="56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ae2b21"/>
                </a:solidFill>
                <a:latin typeface="Gill Sans"/>
              </a:rPr>
              <a:t>Fifth Outline Level</a:t>
            </a: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  <a:p>
            <a:pPr lvl="5" marL="1536120" indent="-292320">
              <a:spcBef>
                <a:spcPts val="3200"/>
              </a:spcBef>
              <a:buClr>
                <a:srgbClr val="ae2b21"/>
              </a:buClr>
              <a:buSzPct val="56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ae2b21"/>
                </a:solidFill>
                <a:latin typeface="Gill Sans"/>
              </a:rPr>
              <a:t>Sixth Outline Level</a:t>
            </a: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  <a:p>
            <a:pPr lvl="6" marL="1536120" indent="-292320">
              <a:spcBef>
                <a:spcPts val="3200"/>
              </a:spcBef>
              <a:buClr>
                <a:srgbClr val="ae2b21"/>
              </a:buClr>
              <a:buSzPct val="56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ae2b21"/>
                </a:solidFill>
                <a:latin typeface="Gill Sans"/>
              </a:rPr>
              <a:t>Seventh Outline Level</a:t>
            </a: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3"/>
          <a:stretch/>
        </p:blipFill>
        <p:spPr>
          <a:xfrm>
            <a:off x="0" y="2128680"/>
            <a:ext cx="11733120" cy="668520"/>
          </a:xfrm>
          <a:prstGeom prst="rect">
            <a:avLst/>
          </a:prstGeom>
          <a:ln w="0">
            <a:noFill/>
          </a:ln>
        </p:spPr>
      </p:pic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ececec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65160" y="3416400"/>
            <a:ext cx="11074320" cy="2921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ececec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3004640" cy="2476440"/>
          </a:xfrm>
          <a:prstGeom prst="rect">
            <a:avLst/>
          </a:prstGeom>
          <a:ln w="0">
            <a:noFill/>
          </a:ln>
        </p:spPr>
      </p:pic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ececec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965160" y="3098520"/>
            <a:ext cx="110743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6000"/>
          </a:bodyPr>
          <a:p>
            <a:pPr marL="349200" indent="-349200">
              <a:spcBef>
                <a:spcPts val="3200"/>
              </a:spcBef>
              <a:buClr>
                <a:srgbClr val="ae2b21"/>
              </a:buClr>
              <a:buSzPct val="56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ae2b21"/>
                </a:solidFill>
                <a:latin typeface="Gill Sans"/>
              </a:rPr>
              <a:t>Click to edit the outline text format</a:t>
            </a: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  <a:p>
            <a:pPr lvl="1" marL="687960" indent="-349200">
              <a:spcBef>
                <a:spcPts val="3200"/>
              </a:spcBef>
              <a:buClr>
                <a:srgbClr val="ae2b21"/>
              </a:buClr>
              <a:buSzPct val="56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ae2b21"/>
                </a:solidFill>
                <a:latin typeface="Gill Sans"/>
              </a:rPr>
              <a:t>Second Outline Level</a:t>
            </a: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  <a:p>
            <a:pPr lvl="2" marL="1070280" indent="-349200">
              <a:spcBef>
                <a:spcPts val="3200"/>
              </a:spcBef>
              <a:buClr>
                <a:srgbClr val="ae2b21"/>
              </a:buClr>
              <a:buSzPct val="56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ae2b21"/>
                </a:solidFill>
                <a:latin typeface="Gill Sans"/>
              </a:rPr>
              <a:t>Third Outline Level</a:t>
            </a: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  <a:p>
            <a:pPr lvl="3" marL="1452600" indent="-349200">
              <a:spcBef>
                <a:spcPts val="3200"/>
              </a:spcBef>
              <a:buClr>
                <a:srgbClr val="ae2b21"/>
              </a:buClr>
              <a:buSzPct val="56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ae2b21"/>
                </a:solidFill>
                <a:latin typeface="Gill Sans"/>
              </a:rPr>
              <a:t>Fourth Outline Level</a:t>
            </a: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  <a:p>
            <a:pPr lvl="4" marL="1834920" indent="-349200">
              <a:spcBef>
                <a:spcPts val="3200"/>
              </a:spcBef>
              <a:buClr>
                <a:srgbClr val="ae2b21"/>
              </a:buClr>
              <a:buSzPct val="56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ae2b21"/>
                </a:solidFill>
                <a:latin typeface="Gill Sans"/>
              </a:rPr>
              <a:t>Fifth Outline Level</a:t>
            </a: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  <a:p>
            <a:pPr lvl="5" marL="1834920" indent="-349200">
              <a:spcBef>
                <a:spcPts val="3200"/>
              </a:spcBef>
              <a:buClr>
                <a:srgbClr val="ae2b21"/>
              </a:buClr>
              <a:buSzPct val="56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ae2b21"/>
                </a:solidFill>
                <a:latin typeface="Gill Sans"/>
              </a:rPr>
              <a:t>Sixth Outline Level</a:t>
            </a: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  <a:p>
            <a:pPr lvl="6" marL="1834920" indent="-349200">
              <a:spcBef>
                <a:spcPts val="3200"/>
              </a:spcBef>
              <a:buClr>
                <a:srgbClr val="ae2b21"/>
              </a:buClr>
              <a:buSzPct val="56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ae2b21"/>
                </a:solidFill>
                <a:latin typeface="Gill Sans"/>
              </a:rPr>
              <a:t>Seventh Outline Level</a:t>
            </a: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" descr=""/>
          <p:cNvPicPr/>
          <p:nvPr/>
        </p:nvPicPr>
        <p:blipFill>
          <a:blip r:embed="rId3"/>
          <a:stretch/>
        </p:blipFill>
        <p:spPr>
          <a:xfrm>
            <a:off x="1440" y="6716880"/>
            <a:ext cx="11712600" cy="685800"/>
          </a:xfrm>
          <a:prstGeom prst="rect">
            <a:avLst/>
          </a:prstGeom>
          <a:ln w="0">
            <a:noFill/>
          </a:ln>
        </p:spPr>
      </p:pic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965160" y="6477120"/>
            <a:ext cx="11074320" cy="1828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ececec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65160" y="8292600"/>
            <a:ext cx="11074320" cy="1003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6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cd9c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ebcd9c"/>
              </a:solidFill>
              <a:latin typeface="Gill Sans"/>
            </a:endParaRPr>
          </a:p>
          <a:p>
            <a:pPr lvl="1" algn="ctr">
              <a:buClr>
                <a:srgbClr val="ebcd9c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cd9c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ebcd9c"/>
              </a:solidFill>
              <a:latin typeface="Gill Sans"/>
            </a:endParaRPr>
          </a:p>
          <a:p>
            <a:pPr lvl="2" algn="ctr">
              <a:buClr>
                <a:srgbClr val="ebcd9c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cd9c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ebcd9c"/>
              </a:solidFill>
              <a:latin typeface="Gill Sans"/>
            </a:endParaRPr>
          </a:p>
          <a:p>
            <a:pPr lvl="3" algn="ctr">
              <a:buClr>
                <a:srgbClr val="ebcd9c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cd9c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ebcd9c"/>
              </a:solidFill>
              <a:latin typeface="Gill Sans"/>
            </a:endParaRPr>
          </a:p>
          <a:p>
            <a:pPr lvl="4" algn="ctr">
              <a:buClr>
                <a:srgbClr val="ebcd9c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cd9c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ebcd9c"/>
              </a:solidFill>
              <a:latin typeface="Gill Sans"/>
            </a:endParaRPr>
          </a:p>
          <a:p>
            <a:pPr lvl="5" algn="ctr">
              <a:buClr>
                <a:srgbClr val="ebcd9c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cd9c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ebcd9c"/>
              </a:solidFill>
              <a:latin typeface="Gill Sans"/>
            </a:endParaRPr>
          </a:p>
          <a:p>
            <a:pPr lvl="6" algn="ctr">
              <a:buClr>
                <a:srgbClr val="ebcd9c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cd9c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965160" y="2527200"/>
            <a:ext cx="11074320" cy="4686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ececec"/>
                </a:solidFill>
                <a:latin typeface="Gill Sans"/>
              </a:rPr>
              <a:t>INDIA’S ERADICATION OF SLUMS</a:t>
            </a:r>
            <a:endParaRPr b="0" lang="en-US" sz="9600" spc="-1" strike="noStrike">
              <a:solidFill>
                <a:srgbClr val="ececec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-5205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ececec"/>
                </a:solidFill>
                <a:latin typeface="Gill Sans"/>
              </a:rPr>
              <a:t>What is happening?</a:t>
            </a: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965160" y="3085920"/>
            <a:ext cx="11074320" cy="5740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2000"/>
          </a:bodyPr>
          <a:p>
            <a:pPr marL="373680" indent="-37368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ebcd9c"/>
                </a:solidFill>
                <a:latin typeface="Gill Sans"/>
              </a:rPr>
              <a:t>Bulldozers razed and ran over slums to improve New Delhi for the 2010 Commonwealth Games.</a:t>
            </a: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  <a:p>
            <a:pPr marL="373680" indent="-37368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ebcd9c"/>
                </a:solidFill>
                <a:latin typeface="Gill Sans"/>
              </a:rPr>
              <a:t>Officials say the land is for a road and the demolitions are simply part of a master plan to clean up the city and move slum-dwellers to proper housing.</a:t>
            </a: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  <a:p>
            <a:pPr marL="373680" indent="-37368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ebcd9c"/>
                </a:solidFill>
                <a:latin typeface="Gill Sans"/>
              </a:rPr>
              <a:t> </a:t>
            </a:r>
            <a:r>
              <a:rPr b="0" lang="en-US" sz="3800" spc="-1" strike="noStrike">
                <a:solidFill>
                  <a:srgbClr val="ebcd9c"/>
                </a:solidFill>
                <a:latin typeface="Gill Sans"/>
              </a:rPr>
              <a:t>But, the government says, there will be no relocation for families like Hanso Devi's because they do not meet relocation requirements.</a:t>
            </a: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  <a:p>
            <a:pPr marL="373680" indent="0">
              <a:lnSpc>
                <a:spcPct val="100000"/>
              </a:lnSpc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  <a:p>
            <a:pPr marL="373680" indent="0">
              <a:lnSpc>
                <a:spcPct val="100000"/>
              </a:lnSpc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pic>
        <p:nvPicPr>
          <p:cNvPr id="500" name="" descr=""/>
          <p:cNvPicPr/>
          <p:nvPr/>
        </p:nvPicPr>
        <p:blipFill>
          <a:blip r:embed="rId5"/>
          <a:stretch/>
        </p:blipFill>
        <p:spPr>
          <a:xfrm>
            <a:off x="9372600" y="431640"/>
            <a:ext cx="3174840" cy="237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ececec"/>
                </a:solidFill>
                <a:latin typeface="Gill Sans"/>
              </a:rPr>
              <a:t>the costs</a:t>
            </a: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84280" y="2374560"/>
            <a:ext cx="110743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9000"/>
          </a:bodyPr>
          <a:p>
            <a:pPr marL="402120" indent="-40212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ebcd9c"/>
                </a:solidFill>
                <a:latin typeface="Gill Sans"/>
              </a:rPr>
              <a:t>In the last two years, more than a quarter of a million people have had their homes demolished along the banks of the Yamuna.</a:t>
            </a: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  <a:p>
            <a:pPr marL="402120" indent="-40212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ebcd9c"/>
                </a:solidFill>
                <a:latin typeface="Gill Sans"/>
              </a:rPr>
              <a:t>More than US$1bn will be spent overhauling the city's transport links, securing reliable electricity and water supplies, and regenerating the city centre, not to mention building the sports facilities, to make a “World Class City.’</a:t>
            </a: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pic>
        <p:nvPicPr>
          <p:cNvPr id="503" name="" descr=""/>
          <p:cNvPicPr/>
          <p:nvPr/>
        </p:nvPicPr>
        <p:blipFill>
          <a:blip r:embed="rId4"/>
          <a:stretch/>
        </p:blipFill>
        <p:spPr>
          <a:xfrm>
            <a:off x="8597880" y="7137360"/>
            <a:ext cx="3720960" cy="237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ececec"/>
                </a:solidFill>
                <a:latin typeface="Gill Sans"/>
              </a:rPr>
              <a:t>so why is this an issue?</a:t>
            </a: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110743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406440" indent="-40644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ebcd9c"/>
                </a:solidFill>
                <a:latin typeface="Gill Sans"/>
              </a:rPr>
              <a:t>About 3 million people live in New Delhi's slums.</a:t>
            </a: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  <a:p>
            <a:pPr marL="406440" indent="-40644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ebcd9c"/>
                </a:solidFill>
                <a:latin typeface="Gill Sans"/>
              </a:rPr>
              <a:t>New Delhi is slated to build 100,000 new apartments, though only 6,800 are under construction.</a:t>
            </a: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  <a:p>
            <a:pPr marL="406440" indent="-40644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ebcd9c"/>
                </a:solidFill>
                <a:latin typeface="Gill Sans"/>
              </a:rPr>
              <a:t>The people who live in New Delhi's slums are some of the city's maids, drivers, street vendors and day laborers.</a:t>
            </a: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6" name="" descr=""/>
          <p:cNvPicPr/>
          <p:nvPr/>
        </p:nvPicPr>
        <p:blipFill>
          <a:blip r:embed="rId2"/>
          <a:stretch/>
        </p:blipFill>
        <p:spPr>
          <a:xfrm>
            <a:off x="609480" y="4673520"/>
            <a:ext cx="3175200" cy="4610160"/>
          </a:xfrm>
          <a:prstGeom prst="rect">
            <a:avLst/>
          </a:prstGeom>
          <a:ln w="0">
            <a:noFill/>
          </a:ln>
        </p:spPr>
      </p:pic>
      <p:pic>
        <p:nvPicPr>
          <p:cNvPr id="507" name="" descr=""/>
          <p:cNvPicPr/>
          <p:nvPr/>
        </p:nvPicPr>
        <p:blipFill>
          <a:blip r:embed="rId3"/>
          <a:stretch/>
        </p:blipFill>
        <p:spPr>
          <a:xfrm>
            <a:off x="7721640" y="482760"/>
            <a:ext cx="4635360" cy="6540480"/>
          </a:xfrm>
          <a:prstGeom prst="rect">
            <a:avLst/>
          </a:prstGeom>
          <a:ln w="0">
            <a:noFill/>
          </a:ln>
        </p:spPr>
      </p:pic>
      <p:pic>
        <p:nvPicPr>
          <p:cNvPr id="508" name="" descr=""/>
          <p:cNvPicPr/>
          <p:nvPr/>
        </p:nvPicPr>
        <p:blipFill>
          <a:blip r:embed="rId4"/>
          <a:stretch/>
        </p:blipFill>
        <p:spPr>
          <a:xfrm>
            <a:off x="419040" y="254160"/>
            <a:ext cx="6350040" cy="4254480"/>
          </a:xfrm>
          <a:prstGeom prst="rect">
            <a:avLst/>
          </a:prstGeom>
          <a:ln w="0">
            <a:noFill/>
          </a:ln>
        </p:spPr>
      </p:pic>
      <p:pic>
        <p:nvPicPr>
          <p:cNvPr id="509" name="" descr=""/>
          <p:cNvPicPr/>
          <p:nvPr/>
        </p:nvPicPr>
        <p:blipFill>
          <a:blip r:embed="rId5"/>
          <a:stretch/>
        </p:blipFill>
        <p:spPr>
          <a:xfrm>
            <a:off x="4064040" y="4863960"/>
            <a:ext cx="3213000" cy="2173320"/>
          </a:xfrm>
          <a:prstGeom prst="rect">
            <a:avLst/>
          </a:prstGeom>
          <a:ln w="0">
            <a:noFill/>
          </a:ln>
        </p:spPr>
      </p:pic>
      <p:pic>
        <p:nvPicPr>
          <p:cNvPr id="510" name="" descr=""/>
          <p:cNvPicPr/>
          <p:nvPr/>
        </p:nvPicPr>
        <p:blipFill>
          <a:blip r:embed="rId6"/>
          <a:stretch/>
        </p:blipFill>
        <p:spPr>
          <a:xfrm>
            <a:off x="6248520" y="7124760"/>
            <a:ext cx="3203280" cy="23112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